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EE840-E82B-48DF-A75E-031149527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069D8-7764-45BC-8E9F-DEAD147DB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F8401-4A38-44C2-9E7C-8A29F56F2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8D6D-3D20-44FD-958E-C4A4CABB2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E5527-E181-4D6A-8B2A-6D8B06312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6F281-DA26-471D-8FBF-219B30B62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BC28-289C-451B-9898-1896275EB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AB14-60C9-42D0-888A-14BB34B2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E9E7-5E00-488F-B628-D1BA7C41C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7586-EC36-4DF3-8E5C-15E8A418A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49BB-6FBC-41D2-92DC-8A0AC330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6743-9C33-47AC-B382-0CA8BD4A4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0C59-0762-41E4-AAB8-A872CCDAE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DC0E-5A96-4FA9-AF78-A60D1493F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31C6-2EFF-4914-9B1B-ADB69448B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2C5C-3CD7-4DD7-BC24-8333D910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2CD3-5927-44BA-9B04-7C7E9FA9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D637-58D3-440C-A4DF-97E90147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9858A-BAAB-48D4-862C-37052FF4844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xirregulars.org/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CT 333: Imagining the Audience in a Wired Wor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lass 2: People, Activities, Context, Techn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oral Dimen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ular vs. infrequent activity - e.g., twenty times a day vs. once every twenty yea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me as pressure - does it work when absolutely necessary or under acute loa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inuous vs. discrete action - one-off action vs. process, and if process, how is it represented and understo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ponse and feedback - feedback provided reliably as required?  Synchronous vs. asynchrono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operation and Complex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ten work requires cooperation with others (if so, interdependencies and bottlenecks become critical variabl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ed vs. vague tasks - defined can be programmed and controlled, vague requires a lot more flexi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fety and Err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tasks are mission-critical - failure is not an option (examples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ndling error and unintended consequence - users behave in mysterious w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sts of error hand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just user education, but also buy-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 structure and workfl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put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ormation F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tput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edba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just important in computing - physical exampl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ex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, different people do different things in a range of environments (some of which you can’t easily contro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extual factors may greatly impact people, what activities they engage in, and what tools they 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ysical Contex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oors? Outdoo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t? Cold?  Dry? Humid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bile? Stationar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ud?  Quie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sy? Cal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ngerous? Saf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cial/Org Contex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extual help/assistan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cial norms of use (and their evolution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ganizational - internal conflict between individual and collective goals? (CSCW examples…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chnolog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hings that a range of diverse people use to accomplish an equally diverse range of tasks in particular contexts (getting confusing yet? It should be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chnology as broadly defined - formalization of technique (Ellul) – we are technological beings by na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chnology in Human Contex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ople are well versed in particular skill sets - whether they’re trained to be or no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hines do some things extraordinarily well - and require a lot of effort to mimic human skills even partially (but when it’s done, it’s impressive – e.g., Idée tool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ign should speak to strengths of both - esp. when electronic technologies are embedded in physical spac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i Bono?  A slice of healthy skeptic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definitions and its sour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) figurative/actual - to what good purpose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) literal - who benefit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chnology is rarely the answer to all social or organizational probl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p. in environment of thoughtless technology hype, asking this question help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quick no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XIrregulars -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uxirregulars.org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Google Group - GTA experts in user experience design, meetups, unconfer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tting involved in such groups is important for social network, internships, jobs,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week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iew of Norman design principles with appl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night – another article (with some time to get responses up) and more on first assig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od/Bad Design Exam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o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chnolog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listic, interdependent relations among these fa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o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r groups are rarely monolithic or homogeneous - often a range of complexity to consi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ke care not to overgeneralize –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everyone 18-65” is a lot of people, and they’re not likely all equ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mits to universal access can be considered or maintained (and is often done - examples?) but should be done with utmost c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ysical differ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ight/weight (e.g., ergonomic issu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ength and ability differences (coupled with age or train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of sen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sychological/Soc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nguage variety and 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ltural, social and religious cust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rning styles (e.g., multiple intelligenc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tention and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ntal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e Differ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people have a range of abilities, skills, requir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vice/experienced user design choices – exampl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rregular/regular users – exampl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fferent people want to do different th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st understand purpose of activity and what enables/constraints i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unintended purposes and consequences - many of which you want to design against (people have a tendency to act irrationally or counterproductivel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16:37:18Z</dcterms:created>
  <dc:creator/>
  <dc:description/>
  <dc:language>en-US</dc:language>
  <cp:lastModifiedBy>Sheridan College</cp:lastModifiedBy>
  <dcterms:modified xsi:type="dcterms:W3CDTF">2010-01-11T16:56:16Z</dcterms:modified>
  <cp:revision>13</cp:revision>
  <dc:subject/>
  <dc:title>CCT 333: Imagining the Audience in a Wired World</dc:title>
</cp:coreProperties>
</file>